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0D9-B48F-4422-A4D1-1F68A1BD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043-24C9-41CE-B38A-6679F4AF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A7F-5C01-4A7C-81F5-C78E3917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501-03EA-411B-B241-8CC06240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B56-BB2A-47C8-86CF-4FA64A71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658-B45E-4104-ACDE-90AB6FCC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68B-3E26-4396-ABC8-8F535F8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B57-8E3C-48A9-8C27-32C9CE0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8B2D-0DF0-45AF-9A74-4D69C789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FD9-1122-4E8C-9335-14DE6B6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53F-AD25-4C67-9E5F-48F8826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335-7C81-49B5-A778-CB454D7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8C38-AB4B-4734-8AB3-9801803C6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98984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四国臨床工学会</a:t>
            </a:r>
            <a:br>
              <a:rPr sz="5400"/>
            </a:b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ＯＩ開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356000" y="4221000"/>
            <a:ext cx="42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筆頭発表者名：　○○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395240" y="56610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演題発表に関連し、開示すべきＣＯＩ関係にある企業などはありませ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4:34:54Z</dcterms:created>
  <dc:creator>小森</dc:creator>
  <dc:description/>
  <dc:language>en-US</dc:language>
  <cp:lastModifiedBy>tominaga</cp:lastModifiedBy>
  <dcterms:modified xsi:type="dcterms:W3CDTF">2014-04-24T01:43:28Z</dcterms:modified>
  <cp:revision>2</cp:revision>
  <dc:subject/>
  <dc:title>中四国臨床工学会 ＣＯＩ開示</dc:title>
</cp:coreProperties>
</file>