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442E-4491-4588-B906-8999D8C4CC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19C-C4B8-4638-9F11-099569E5DE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E75-E572-4832-B8F3-27DF97E0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0C8-3B0F-4D30-B4D0-8282166E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954-C02D-4DF0-B425-123E0CAB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045-474B-4446-9BFB-6FD748CA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98E-8B58-4584-85AF-C25DD78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4A2-1DCB-474C-9EB8-5A7CCABE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973-2297-41E2-A1DE-D55AA191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A0C-7324-424C-9711-DDA277C9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61A-2EC6-479D-8A8C-F6BEB1EC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045-77EA-48FD-AE08-0049F77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E67-26CA-45AB-BC92-A14AD8C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9DF-CF1D-4460-A731-95D6D778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083B-9240-4557-BA5A-31EC74AD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ＭＳ ゴシック"/>
              </a:rPr>
              <a:t>中四国臨床工学会</a:t>
            </a:r>
            <a:br>
              <a:rPr sz="5400"/>
            </a:br>
            <a:r>
              <a:rPr b="0" lang="ja-JP" sz="5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ＯＩ開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427640" y="2349360"/>
            <a:ext cx="42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筆頭発表者名：　○○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210840" y="3068640"/>
            <a:ext cx="2285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演題発表に関連し、開示すべきＣＯＩ関係にある企業などとして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顧問　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株保有・利益　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特許使用料　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講演料　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原稿料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受託研究・共同研究費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奨学寄附金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寄附講座所属　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贈答品などの報酬　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934680" y="3429000"/>
            <a:ext cx="1070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製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製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あり（○○製薬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な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4:34:54Z</dcterms:created>
  <dc:creator>小森</dc:creator>
  <dc:description/>
  <dc:language>en-US</dc:language>
  <cp:lastModifiedBy>tominaga</cp:lastModifiedBy>
  <dcterms:modified xsi:type="dcterms:W3CDTF">2014-04-24T01:43:08Z</dcterms:modified>
  <cp:revision>3</cp:revision>
  <dc:subject/>
  <dc:title>中四国臨床工学会 ＣＯＩ開示</dc:title>
</cp:coreProperties>
</file>